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 within-person BP levels when low in depressive symptoms (ie, 2 SD below within-person mean) and when high in depressive symptoms (ie, 2 SD above within-person mean) for normotensive subjects and hypertensive patients separately. The interaction of depressive symptoms and hypertensive status was significant for SBP and DBP (F1,2049=13.70 [P&lt;0.0002] and F1,2049=4.14 [P&lt;0.04], respectively), with only hypertensive patients showing an association (b=0.11 [P&lt;0.0001] and b=0.05 [P&lt;0.04]; all P&gt; 0.20 for normotensive subj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jectory of Psychological Risk and Incident Hypertension in Middle-Aged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Katri Räikkönen, Karen A. Matthews, and Lewis H. Ku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8(4):798-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1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an within-person BP levels when low in depressive symptoms (ie, 2 SD below within-person mean) and when high in depressive symptoms (ie, 2 SD above within-person mean) for normotensive subjects and hypertensive patients separate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673280"/>
            <a:ext cx="8604360" cy="4206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tri Räikkönen et al. Hypertension. 2001;38:798-8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